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2DA5-9A10-4672-B825-130E4DE8E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ADEE-160E-40A1-9BEA-893434DBD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EA9-D041-4395-8CA6-306D74F6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73E-3B67-4EBE-83B0-E2BCBD69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D3E-BBF8-4508-96C7-CA50F8EA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C53-1D94-4853-B83C-AD64BF4A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F1F-3119-4D1B-8BC1-0D19E9A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C03-38FD-481D-AF25-545E65C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8D21-6728-48F6-9A5E-F6223D22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9F0-5B97-4064-A4BF-A82282D7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31F-2952-45C1-897F-82599E8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63D-6D62-4D06-8CCC-E7FAF1F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309-B67A-4D3B-846A-D7EF17B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A9F-E3BC-4FE6-944E-AE4D053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E3AB-99A8-47C1-9AF3-67AECCA4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sotros son va a tenemos diversión ma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ñ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52424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Yo soy muy alta. Yo no me gusta molesto gente.  Noureen, Misbah, y Ayat son mis amig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í! Yo te cocino un pastel! ¿Qué sabor quieres? Yo tengo chocolate, vainilla, y fresa.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Kiara esta comprand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refrescos.  Jensine esta llegando de Townsend Harris. Ellas son duelce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Diciembre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2767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 cumpleaños  fiesta mañana!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Diciembre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í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648320"/>
            <a:ext cx="51055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iero  delicioso chocolate pastel!  Hable con tu mama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iero ir a un One Direction concierto!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Di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54100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Ok. Pregunto tus padres.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¿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Son Merna y Em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legan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?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40 minutes ago Diciembre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90920"/>
            <a:ext cx="6350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64832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41008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5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Zen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Zena Youss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Zena Youssef (571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Zena Yousse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0574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Por qué yo soy muy alta? :/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ia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7"/>
          <p:cNvSpPr/>
          <p:nvPr/>
        </p:nvSpPr>
        <p:spPr>
          <a:xfrm>
            <a:off x="152280" y="3581280"/>
            <a:ext cx="152424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llamo Zena! Yo  vivo en los Estados Unidos. Yo Tengo catorce     años. MOLESTO PEO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2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152280" y="6477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6"/>
          <p:cNvSpPr/>
          <p:nvPr/>
        </p:nvSpPr>
        <p:spPr>
          <a:xfrm flipH="1">
            <a:off x="1371600" y="5562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Si! Yo te cocino un pastel! ¿Qué sabor quires? Kiara esta comprando refrescos.  Y y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4 minutes ago   December 6, 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251460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gracias, hermosa Zena! Yo estoy bien. Yo estoy emocionada por mi cumpleaños mañana!  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5 minutes ago   December 6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32004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os días, bonita Noureen!  Como esta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Deci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42  minutes ago   December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51814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343434"/>
                </a:solidFill>
                <a:latin typeface="Arial"/>
              </a:rPr>
              <a:t>Ze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40 minutes ago     December 6,de 2012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609588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43434"/>
                </a:solidFill>
                <a:latin typeface="Arial"/>
              </a:rPr>
              <a:t>Noureen     </a:t>
            </a: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5 minutes ago      December 6,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2"/>
          <p:cNvSpPr/>
          <p:nvPr/>
        </p:nvSpPr>
        <p:spPr>
          <a:xfrm>
            <a:off x="613080" y="6477120"/>
            <a:ext cx="62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Screen shot 2012-11-29 at 10.49.49 PM.png"/>
          <p:cNvPicPr/>
          <p:nvPr/>
        </p:nvPicPr>
        <p:blipFill>
          <a:blip r:embed="rId1"/>
          <a:stretch/>
        </p:blipFill>
        <p:spPr>
          <a:xfrm>
            <a:off x="90360" y="609480"/>
            <a:ext cx="181476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4" descr="Photo on 2012-12-03 at 20.56.jpg"/>
          <p:cNvPicPr/>
          <p:nvPr/>
        </p:nvPicPr>
        <p:blipFill>
          <a:blip r:embed="rId2"/>
          <a:stretch/>
        </p:blipFill>
        <p:spPr>
          <a:xfrm>
            <a:off x="152280" y="5257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3393_449325755108868_272922463_n.jpg"/>
          <p:cNvPicPr/>
          <p:nvPr/>
        </p:nvPicPr>
        <p:blipFill>
          <a:blip r:embed="rId3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28569_495140737182310_2133635340_n.jpg"/>
          <p:cNvPicPr/>
          <p:nvPr/>
        </p:nvPicPr>
        <p:blipFill>
          <a:blip r:embed="rId4"/>
          <a:stretch/>
        </p:blipFill>
        <p:spPr>
          <a:xfrm>
            <a:off x="1371600" y="5245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Photo on 12-4-12 at 9.00 AM #2.jpg"/>
          <p:cNvPicPr/>
          <p:nvPr/>
        </p:nvPicPr>
        <p:blipFill>
          <a:blip r:embed="rId5"/>
          <a:srcRect l="65001" t="23753" r="0" b="835"/>
          <a:stretch/>
        </p:blipFill>
        <p:spPr>
          <a:xfrm>
            <a:off x="762120" y="59436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9" descr="255454_485362224809992_722496303_n.jpg"/>
          <p:cNvPicPr/>
          <p:nvPr/>
        </p:nvPicPr>
        <p:blipFill>
          <a:blip r:embed="rId6"/>
          <a:stretch/>
        </p:blipFill>
        <p:spPr>
          <a:xfrm>
            <a:off x="152280" y="5943600"/>
            <a:ext cx="457200" cy="53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Photo on 12-4-12 at 9.00 AM #2.jpg"/>
          <p:cNvPicPr/>
          <p:nvPr/>
        </p:nvPicPr>
        <p:blipFill>
          <a:blip r:embed="rId7"/>
          <a:srcRect l="65001" t="23753" r="0" b="835"/>
          <a:stretch/>
        </p:blipFill>
        <p:spPr>
          <a:xfrm>
            <a:off x="2209680" y="3200400"/>
            <a:ext cx="381240" cy="547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Screen shot 2012-11-29 at 10.49.49 PM.png"/>
          <p:cNvPicPr/>
          <p:nvPr/>
        </p:nvPicPr>
        <p:blipFill>
          <a:blip r:embed="rId8"/>
          <a:stretch/>
        </p:blipFill>
        <p:spPr>
          <a:xfrm>
            <a:off x="2057400" y="25146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Photo on 12-4-12 at 9.00 AM #2.jpg"/>
          <p:cNvPicPr/>
          <p:nvPr/>
        </p:nvPicPr>
        <p:blipFill>
          <a:blip r:embed="rId9"/>
          <a:srcRect l="65001" t="23753" r="0" b="835"/>
          <a:stretch/>
        </p:blipFill>
        <p:spPr>
          <a:xfrm>
            <a:off x="2209680" y="4495680"/>
            <a:ext cx="381240" cy="547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Screen shot 2012-11-29 at 10.49.49 PM.png"/>
          <p:cNvPicPr/>
          <p:nvPr/>
        </p:nvPicPr>
        <p:blipFill>
          <a:blip r:embed="rId10"/>
          <a:stretch/>
        </p:blipFill>
        <p:spPr>
          <a:xfrm>
            <a:off x="2057400" y="38862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Photo on 12-4-12 at 9.00 AM #2.jpg"/>
          <p:cNvPicPr/>
          <p:nvPr/>
        </p:nvPicPr>
        <p:blipFill>
          <a:blip r:embed="rId11"/>
          <a:srcRect l="65001" t="23753" r="0" b="835"/>
          <a:stretch/>
        </p:blipFill>
        <p:spPr>
          <a:xfrm>
            <a:off x="2133720" y="6172200"/>
            <a:ext cx="380880" cy="54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Screen shot 2012-11-29 at 10.49.49 PM.png"/>
          <p:cNvPicPr/>
          <p:nvPr/>
        </p:nvPicPr>
        <p:blipFill>
          <a:blip r:embed="rId12"/>
          <a:stretch/>
        </p:blipFill>
        <p:spPr>
          <a:xfrm>
            <a:off x="1981080" y="5257800"/>
            <a:ext cx="635040" cy="533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1" descr="59388_469609556415682_1274901906_n.jpg"/>
          <p:cNvPicPr/>
          <p:nvPr/>
        </p:nvPicPr>
        <p:blipFill>
          <a:blip r:embed="rId13"/>
          <a:stretch/>
        </p:blipFill>
        <p:spPr>
          <a:xfrm>
            <a:off x="1219320" y="5943600"/>
            <a:ext cx="533160" cy="534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3"/>
          <p:cNvSpPr/>
          <p:nvPr/>
        </p:nvSpPr>
        <p:spPr>
          <a:xfrm>
            <a:off x="1145520" y="6477120"/>
            <a:ext cx="55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63"/>
          <p:cNvSpPr/>
          <p:nvPr/>
        </p:nvSpPr>
        <p:spPr>
          <a:xfrm flipH="1">
            <a:off x="1902960" y="2438280"/>
            <a:ext cx="1800" cy="4268880"/>
          </a:xfrm>
          <a:prstGeom prst="line">
            <a:avLst/>
          </a:prstGeom>
          <a:ln w="25560">
            <a:solidFill>
              <a:srgbClr val="bfc4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9:09Z</dcterms:created>
  <dc:creator>FriscoISD</dc:creator>
  <dc:description/>
  <dc:language>en-US</dc:language>
  <cp:lastModifiedBy>home</cp:lastModifiedBy>
  <dcterms:modified xsi:type="dcterms:W3CDTF">2012-12-10T05:00:04Z</dcterms:modified>
  <cp:revision>161</cp:revision>
  <dc:subject/>
  <dc:title>Profile</dc:title>
</cp:coreProperties>
</file>